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A1CD-9E09-4973-B2AA-362A6BCA4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8177-6B7B-4CCA-85F8-E35EB576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4AA5-2D92-4748-934F-15A239948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3D6F-EC68-4563-8D63-7F6CF2378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3AB7-7813-4F38-A060-04F0EB099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D1A6-A2C2-435B-B560-135EDA3C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4069-B8A5-4552-A798-C6932164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631A-42C7-4D64-96F0-C79921A6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61C9-D59E-408B-BF94-F174BE34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1655-8AF9-48E5-85EC-0C5959C6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E899-1581-49BC-B7E8-B58D7D76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7780-F133-4B6D-A225-3C7A3291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9391-C714-4C50-AD35-EE3164FE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1E80-3911-4F29-9398-1D043494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ABBA-51BD-4E57-B6E0-47BC3D51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7B2B-DBBF-4244-B397-15FB0ACDC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95DCA-BBFE-4009-9150-8E2B22DFC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5593-FF00-449F-B776-9865FB1E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99DA-9E3F-4E19-B252-B5DEA9FB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5F30-29FF-44D3-945E-190050EE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336E-F6D2-43FD-857C-170EBD42A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2B62-FCD6-477E-AA5C-C6C405CB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4766-095C-44F1-9518-620B91E2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47BA-417F-48E8-B5B1-35E2CD97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0C20-BD19-401C-AC27-68ED7035405F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B3A2-631A-4373-8D58-0605651E0145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2438280" y="3048120"/>
            <a:ext cx="45244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30.1  </a:t>
            </a: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反比例函数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33520" y="838080"/>
            <a:ext cx="4248000" cy="2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义务教育课程标准实验教科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547640" y="1413000"/>
            <a:ext cx="165600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九年级 上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248520" y="5869080"/>
            <a:ext cx="20145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河北教育出版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0880" y="1143000"/>
            <a:ext cx="800100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自行车运动员在长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000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路段上骑车训练，行驶全程所用的时间为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行驶的平均速度为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m/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写出用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表示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函数表达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当行驶的平均速度分别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m/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m/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2.5m/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，行驶全程所用的时间各为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09480" y="30492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做一做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6" name=""/>
          <p:cNvSpPr/>
          <p:nvPr/>
        </p:nvSpPr>
        <p:spPr>
          <a:xfrm>
            <a:off x="2057400" y="51055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1250s 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1000s 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80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048120" y="3135240"/>
                <a:ext cx="145548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0880" y="1143000"/>
            <a:ext cx="8001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一个物体对桌面的压力为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450N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受力面积为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m</a:t>
            </a:r>
            <a:r>
              <a:rPr b="1" lang="zh-CN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压强为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P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写出用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表示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函数关系式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根据写出的函数关系式，填写下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观察上表，当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增大时，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是增大还是减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5800" y="3581280"/>
          <a:ext cx="7467480" cy="1143000"/>
        </p:xfrm>
        <a:graphic>
          <a:graphicData uri="http://schemas.openxmlformats.org/drawingml/2006/table">
            <a:tbl>
              <a:tblPr/>
              <a:tblGrid>
                <a:gridCol w="1244520"/>
                <a:gridCol w="1244520"/>
                <a:gridCol w="1244880"/>
                <a:gridCol w="1244520"/>
                <a:gridCol w="1244520"/>
                <a:gridCol w="1244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286000" y="42670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5           22.5          15          11.25        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959440" y="1712880"/>
          <a:ext cx="158436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9440" y="1712880"/>
                    <a:ext cx="158436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 txBox="1"/>
          <p:nvPr/>
        </p:nvSpPr>
        <p:spPr>
          <a:xfrm>
            <a:off x="609480" y="30492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做一做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4" name=""/>
          <p:cNvSpPr/>
          <p:nvPr/>
        </p:nvSpPr>
        <p:spPr>
          <a:xfrm>
            <a:off x="3382560" y="5584680"/>
            <a:ext cx="239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当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增大时，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减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04920" y="1066680"/>
            <a:ext cx="8001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已知的面积为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0cm</a:t>
            </a:r>
            <a:r>
              <a:rPr b="1" lang="zh-CN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底边长为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cm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高为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cm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写出用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表示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函数关系式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根据</a:t>
            </a: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写出的函数关系式，填写下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观察上表，当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增大时，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是怎样变化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09480" y="30492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做一做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85800" y="3048120"/>
          <a:ext cx="7467480" cy="1143000"/>
        </p:xfrm>
        <a:graphic>
          <a:graphicData uri="http://schemas.openxmlformats.org/drawingml/2006/table">
            <a:tbl>
              <a:tblPr/>
              <a:tblGrid>
                <a:gridCol w="1244520"/>
                <a:gridCol w="1244520"/>
                <a:gridCol w="1244880"/>
                <a:gridCol w="1244520"/>
                <a:gridCol w="1244520"/>
                <a:gridCol w="1244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5715000" y="1523880"/>
                <a:ext cx="11844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9" name=""/>
          <p:cNvGrpSpPr/>
          <p:nvPr/>
        </p:nvGrpSpPr>
        <p:grpSpPr>
          <a:xfrm>
            <a:off x="2057400" y="3581280"/>
            <a:ext cx="6172200" cy="612000"/>
            <a:chOff x="2057400" y="3581280"/>
            <a:chExt cx="6172200" cy="612000"/>
          </a:xfrm>
        </p:grpSpPr>
        <p:sp>
          <p:nvSpPr>
            <p:cNvPr id="170" name=""/>
            <p:cNvSpPr/>
            <p:nvPr/>
          </p:nvSpPr>
          <p:spPr>
            <a:xfrm>
              <a:off x="2057400" y="3733560"/>
              <a:ext cx="617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          10                                  5             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4787640" y="3581280"/>
                  <a:ext cx="3542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2" name=""/>
          <p:cNvSpPr/>
          <p:nvPr/>
        </p:nvSpPr>
        <p:spPr>
          <a:xfrm>
            <a:off x="2926080" y="4846680"/>
            <a:ext cx="239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当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增大时，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减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09480" y="304920"/>
            <a:ext cx="1676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大家谈谈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1143000"/>
            <a:ext cx="8001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前面三个函数表达式有哪些共同特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如果变量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与变量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乘积总是等于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那么用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表示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表达式具有前面的特征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你还能举出具有这种函数关系的实例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80880" y="3416400"/>
            <a:ext cx="8229600" cy="2064600"/>
            <a:chOff x="380880" y="3416400"/>
            <a:chExt cx="8229600" cy="2064600"/>
          </a:xfrm>
        </p:grpSpPr>
        <p:sp>
          <p:nvSpPr>
            <p:cNvPr id="176" name=""/>
            <p:cNvSpPr/>
            <p:nvPr/>
          </p:nvSpPr>
          <p:spPr>
            <a:xfrm>
              <a:off x="380880" y="3416400"/>
              <a:ext cx="8229600" cy="20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如果变量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和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之间的函数关系可以表示成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k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是常数，且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k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≠0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的形式，则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是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反比例函数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380880" y="3962520"/>
                  <a:ext cx="1676520" cy="100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 spd="slow">
    <p:randomBar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609480" y="304920"/>
            <a:ext cx="1067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练习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143000"/>
            <a:ext cx="8001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举出生活中具有反比例关系的实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星星电子集团接到了生产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400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个计算机零部件的任务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请写出用生产这批零部件所要用的时间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t(h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表示每小时生产零部件个数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n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函数表达式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在下列函数中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哪些是反比例函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724280" y="2583000"/>
                <a:ext cx="14479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00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80880" y="4038480"/>
                <a:ext cx="1295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286000" y="4267080"/>
                <a:ext cx="13716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486400" y="5257800"/>
                <a:ext cx="12589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114800" y="4038480"/>
                <a:ext cx="145584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6248520" y="4038480"/>
                <a:ext cx="19303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666880" y="5257800"/>
                <a:ext cx="170820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838080" y="4648320"/>
            <a:ext cx="89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24280" y="4648320"/>
            <a:ext cx="89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464832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不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010280" y="4648320"/>
            <a:ext cx="12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不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352680" y="5943600"/>
            <a:ext cx="12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不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67280" y="59436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不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447920" y="2514600"/>
            <a:ext cx="4572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作业：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971800" y="3657600"/>
            <a:ext cx="4572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习题 </a:t>
            </a:r>
            <a:r>
              <a:rPr b="1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1.2.3.4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雨林木风</cp:lastModifiedBy>
  <dcterms:modified xsi:type="dcterms:W3CDTF">2009-08-13T09:09:08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